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4BA0-2A6E-4DD0-A5EA-88DB06707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924C-417D-4C3E-9ED6-1DA7535B5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DC15-10B8-49FE-A9F4-620F920AE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B507-E524-4DAE-AEFA-CE6F6242B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A978C-0980-4339-BDA2-1D53C9817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F5287-8460-42DB-B036-A9C33F7D4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5BE22-C867-4320-8F78-7E301E6DA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A3612-6AD9-4542-B891-DC129DC74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1F789-B032-4670-8E5F-6093EC803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541D0-DA98-4842-9BEB-16C411183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2E3AD-4613-4DB7-BCEA-8AD8AA757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B964-A883-4909-8E1C-833AEC2B1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47A80-868E-4383-B1C1-BF850F19B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8BFA8-FF20-486B-B13C-8CD9B0968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6D00F-1657-43D9-A715-3A02F3704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54199-0924-463E-8FDB-016878160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D8840-CC6A-4CBA-9CE1-E1ABD3A8D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6867-C654-45C2-A6F6-A469D8DC1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1B88-CC29-4DBA-8BA9-EF5758697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2A1C-BCEA-4CDA-99F9-982631EBA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1759-AABC-4D8D-9B0F-EA1114440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DCB5-17AE-4EF8-B7FD-DABF525E6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B693-7A7C-486D-AF3A-A8E5BEFBF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D557-F0D5-49C9-AD80-66783215F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8E39F-08A9-492F-8013-75C08357172A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BDF4C-5586-46F7-857D-B402D83B1903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95280" y="692280"/>
            <a:ext cx="835344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Skills and Techniqu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BADMINT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Lesson 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16th November 200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79280" y="4381560"/>
            <a:ext cx="3240360" cy="23367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73280" cy="32590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6443640" y="2781360"/>
            <a:ext cx="2546280" cy="39513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6443640" y="189000"/>
            <a:ext cx="2556000" cy="179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NAB Part 3!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You will complete NAB Part 3 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0000"/>
                </a:solidFill>
                <a:uFillTx/>
                <a:latin typeface="Comic Sans MS"/>
              </a:rPr>
              <a:t>MONDAY 30</a:t>
            </a:r>
            <a:r>
              <a:rPr b="0" lang="en-US" sz="4400" spc="-1" strike="noStrike" u="sng" baseline="30000">
                <a:solidFill>
                  <a:srgbClr val="ff0000"/>
                </a:solidFill>
                <a:uFillTx/>
                <a:latin typeface="Comic Sans MS"/>
              </a:rPr>
              <a:t>th</a:t>
            </a:r>
            <a:r>
              <a:rPr b="0" lang="en-US" sz="4400" spc="-1" strike="noStrike" u="sng">
                <a:solidFill>
                  <a:srgbClr val="ff0000"/>
                </a:solidFill>
                <a:uFillTx/>
                <a:latin typeface="Comic Sans MS"/>
              </a:rPr>
              <a:t> NOVEMBER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Period Starter……..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Create a mind map for each stage of learn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Automatic, Cognitive and Associativ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Create a mind map for methods of practic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Learning Outcome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By the end of this lesson you should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Discussed effectiveness of practic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Have knowledge of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Programme of Work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and be able to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describe i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724360" y="4365720"/>
            <a:ext cx="3203640" cy="224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Effectiveness of Practic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ahoma"/>
              </a:rPr>
              <a:t>You must consider several things when planning a practice to improve your ski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ahoma"/>
              </a:rPr>
              <a:t>1 – Clear Goa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ahoma"/>
              </a:rPr>
              <a:t>2 – Work/Rest Ratio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ahoma"/>
              </a:rPr>
              <a:t>3 – Progress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ahoma"/>
              </a:rPr>
              <a:t>4 – Motivation/Concentr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ahoma"/>
              </a:rPr>
              <a:t>5 - Feedbac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012000" y="2997360"/>
            <a:ext cx="2844720" cy="191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Effectiveness of Practic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Motivation, concentration and feedback are important factors that affect your performance in any activity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Select one of these and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explain how it affect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your performanc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227640" y="3573360"/>
            <a:ext cx="2627280" cy="29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Programme of Work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Once you have identified a weakness you need to create a programme that will help improve that weaknes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Before planning your programme of work you must conside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The weakness – is it specific to your performa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Principles of Training – Frequency, Intensity, Duration, Progressive Overload, Specificity and Adapt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P.O.W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Look at P26 of your bookle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s you improve from the P.O.W how are the practice sessions made more difficult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Describe one of th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sessions in the train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rogramm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012000" y="4521240"/>
            <a:ext cx="2844720" cy="19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Homework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ue Monday 23</a:t>
            </a:r>
            <a:r>
              <a:rPr b="0" lang="en-US" sz="3200" spc="-1" strike="noStrike" baseline="30000">
                <a:solidFill>
                  <a:srgbClr val="ffff00"/>
                </a:solidFill>
                <a:latin typeface="Comic Sans MS"/>
              </a:rPr>
              <a:t>rd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 Novemb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Select a method of practice you have used. Describe what you did to make this practice more difficul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0T15:00:34Z</dcterms:created>
  <dc:creator>hamiltonp</dc:creator>
  <dc:description/>
  <dc:language>en-US</dc:language>
  <cp:lastModifiedBy>Laura Kirkpatrick</cp:lastModifiedBy>
  <dcterms:modified xsi:type="dcterms:W3CDTF">2009-11-16T12:48:06Z</dcterms:modified>
  <cp:revision>47</cp:revision>
  <dc:subject/>
  <dc:title>Slide 1</dc:title>
</cp:coreProperties>
</file>